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1.jpeg" ContentType="image/jpeg"/>
  <Override PartName="/ppt/media/glass.wav" ContentType="audio/x-wav"/>
  <Override PartName="/ppt/media/applause.wav" ContentType="audio/x-wav"/>
  <Override PartName="/ppt/media/drumroll.wav" ContentType="audio/x-wav"/>
  <Override PartName="/ppt/media/image3.jpeg" ContentType="image/jpeg"/>
  <Override PartName="/ppt/media/carbrake.wav" ContentType="audio/x-wav"/>
  <Override PartName="/ppt/media/image4.jpeg" ContentType="image/jpeg"/>
  <Override PartName="/ppt/media/image5.jpeg" ContentType="image/jpeg"/>
  <Override PartName="/ppt/media/explode.wav" ContentType="audio/x-wav"/>
  <Override PartName="/ppt/media/image7.jpeg" ContentType="image/jpeg"/>
  <Override PartName="/ppt/media/image2.jpeg" ContentType="image/jpeg"/>
  <Override PartName="/ppt/media/image17.gif" ContentType="image/gif"/>
  <Override PartName="/ppt/media/camera.wav" ContentType="audio/x-wav"/>
  <Override PartName="/ppt/media/image8.jpeg" ContentType="image/jpeg"/>
  <Override PartName="/ppt/media/image10.jpeg" ContentType="image/jpeg"/>
  <Override PartName="/ppt/media/whoosh.wav" ContentType="audio/x-wav"/>
  <Override PartName="/ppt/media/image9.jpeg" ContentType="image/jpeg"/>
  <Override PartName="/ppt/media/image11.jpeg" ContentType="image/jpeg"/>
  <Override PartName="/ppt/media/cashreg.wav" ContentType="audio/x-wav"/>
  <Override PartName="/ppt/media/image12.jpeg" ContentType="image/jpeg"/>
  <Override PartName="/ppt/media/image14.jpeg" ContentType="image/jpeg"/>
  <Override PartName="/ppt/media/driveby.wav" ContentType="audio/x-wav"/>
  <Override PartName="/ppt/media/image6.jpeg" ContentType="image/jpeg"/>
  <Override PartName="/ppt/media/type.wav" ContentType="audio/x-wav"/>
  <Override PartName="/ppt/media/image13.jpeg" ContentType="image/jpeg"/>
  <Override PartName="/ppt/media/gunshot.wav" ContentType="audio/x-wav"/>
  <Override PartName="/ppt/media/image15.jpeg" ContentType="image/jpeg"/>
  <Override PartName="/ppt/media/image16.jpeg" ContentType="image/jpeg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43D-6F7C-491D-8BD0-A68EF65F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83C-B945-49C2-83B0-1F835583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08D-9EA2-4110-A28E-A2A1BB8A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950-6ADB-434D-A50E-FCA7B633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660-FFCA-411B-8A8B-6228C4AC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A9C-49D7-4CA9-8A19-D684C5D9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807-1F48-4D93-99B6-DC1295EB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9D1E-E012-4D8B-AF05-816469DF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118-2922-4644-9563-9A906BA1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D82-64D4-406B-90C5-12204059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0AA-05CD-4DEE-B665-6B3E39F8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673-99B9-46E3-BD4B-6FED0E65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5026-352A-4F96-A75A-70FFA40408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glas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glass.wav"/><Relationship Id="rId6" Type="http://schemas.openxmlformats.org/officeDocument/2006/relationships/audio" Target="../media/explod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ashreg.wav"/><Relationship Id="rId4" Type="http://schemas.openxmlformats.org/officeDocument/2006/relationships/audio" Target="../media/driveby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4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audio" Target="../media/explode.wav"/><Relationship Id="rId8" Type="http://schemas.openxmlformats.org/officeDocument/2006/relationships/audio" Target="../media/camera.wav"/><Relationship Id="rId9" Type="http://schemas.openxmlformats.org/officeDocument/2006/relationships/audio" Target="../media/whoosh.wav"/><Relationship Id="rId10" Type="http://schemas.openxmlformats.org/officeDocument/2006/relationships/audio" Target="../media/driveby.wav"/><Relationship Id="rId11" Type="http://schemas.openxmlformats.org/officeDocument/2006/relationships/audio" Target="../media/glass.wav"/><Relationship Id="rId12" Type="http://schemas.openxmlformats.org/officeDocument/2006/relationships/audio" Target="../media/cashreg.wav"/><Relationship Id="rId13" Type="http://schemas.openxmlformats.org/officeDocument/2006/relationships/audio" Target="../media/glass.wav"/><Relationship Id="rId14" Type="http://schemas.openxmlformats.org/officeDocument/2006/relationships/audio" Target="../media/drumroll.wav"/><Relationship Id="rId15" Type="http://schemas.openxmlformats.org/officeDocument/2006/relationships/audio" Target="../media/applause.wav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1523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066680"/>
            <a:ext cx="5181840" cy="10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tencil"/>
              </a:rPr>
              <a:t>NEWSFLA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65680" y="380880"/>
            <a:ext cx="2909880" cy="3048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91440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Martin Luther King has Been Shot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9880" y="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9880" y="5334120"/>
            <a:ext cx="5334120" cy="1595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"/>
              </a:rPr>
              <a:t>Morehouse College where Martin Luther King att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"/>
              </a:rPr>
              <a:t>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4230720" cy="3198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867280" y="838080"/>
            <a:ext cx="2035440" cy="1535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04920" y="4800600"/>
            <a:ext cx="20350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00360" cy="291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3581280" cy="2708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581280" y="0"/>
            <a:ext cx="3810240" cy="2873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581280" y="2819520"/>
            <a:ext cx="3810240" cy="2819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157720"/>
            <a:ext cx="8305920" cy="19227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ff"/>
                </a:solidFill>
                <a:latin typeface="Agency FB"/>
              </a:rPr>
              <a:t>The Bus Boycott's WORKED 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4929120" cy="3270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43000" y="46483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Martin Luther Kings Next Door Neighbour Talks exclusively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44197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04920" y="138240"/>
            <a:ext cx="8305560" cy="5729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6019920"/>
            <a:ext cx="7467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lfaen"/>
              </a:rPr>
              <a:t>The Hotel Where Martin Luther King was Shot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14400" y="2514600"/>
            <a:ext cx="7315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rtin Luther King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292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5187960"/>
            <a:ext cx="2209680" cy="1670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620120" y="4724280"/>
            <a:ext cx="152388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3809880" y="525780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81680" y="1295280"/>
            <a:ext cx="1752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ble to for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4114800"/>
            <a:ext cx="5105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ught respect to the World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0"/>
            <a:ext cx="3657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Changer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549360"/>
            <a:ext cx="3743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Newsreader : India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549360"/>
            <a:ext cx="3529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Reporter 1 : Mega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492280"/>
            <a:ext cx="3743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Reporter 2 : Emil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2276640"/>
            <a:ext cx="352908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Reporter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Gabb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797360"/>
            <a:ext cx="374328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Reporter 4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Dan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76720" y="4724280"/>
            <a:ext cx="36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Reporter 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All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91120" y="3143160"/>
            <a:ext cx="7617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9:18:22Z</dcterms:created>
  <dc:creator>India</dc:creator>
  <dc:description/>
  <dc:language>en-US</dc:language>
  <cp:lastModifiedBy>nb</cp:lastModifiedBy>
  <dcterms:modified xsi:type="dcterms:W3CDTF">2007-03-23T10:47:00Z</dcterms:modified>
  <cp:revision>4</cp:revision>
  <dc:subject/>
  <dc:title>PowerPoint Presentation</dc:title>
</cp:coreProperties>
</file>